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D57F-1D17-4A65-8C25-D24B84496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C9FD-06E6-4A79-A0C4-0A18587DEE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8977-F151-4A20-B07D-1E2B1D13103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D5AA-7E3E-45DA-9A00-6A40C6CED3A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84DF-5694-4F5E-BEF0-B915064C6EC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6035-592E-4E50-85DC-E0E0A0FE3BE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DBD7-804A-4987-85A4-B6A44B8444E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7504-50B8-46A3-B843-324428D3660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8656-A638-48B6-84A8-374CDE259C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4F7C-1142-4639-8F29-B7F316FBA23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938D-737D-4268-A59F-4079F255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6A1B-C3DB-41DB-8429-D7B09CFF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85D-96B9-4122-805F-27703480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FB5-E6A2-429D-97FD-98E5E17C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16B1-6A54-4761-A778-E8721CB2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ECCE-7286-4754-95FE-1DB24402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C992-805B-40FE-94FF-D75E84E0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4C2F-ED8E-40E4-982F-1734F397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E66D-B997-4AF5-9EE9-60EF2159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18AF-6D6C-43F0-A4AA-EA3F29DC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D804-731C-4693-92BB-1D8307CB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7EC-00DD-4587-A5FB-32F98E0C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9F8D-3D80-4E22-BF0C-1FAF5DB2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C354-22AB-44E8-9E0D-A7DEBD87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B633-1E90-4FF1-8C6C-E8BB85A9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FBC7-32CA-4E1C-A76A-47064A69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5F15-9D0B-4239-8B83-F1D7BE30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D32D-5F82-4206-A8F0-D8E87A44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44E-5DE9-4BD9-929C-D85725E8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88A-6A9A-4A73-AEF0-E1A34A34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7D8-A14D-4B5B-9EB9-5CEFBE76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12F0-081E-459A-801B-B511F09D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1096-42AE-4DDB-98F6-90FE4D9F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B871-ADB3-442C-8B7D-8F758AB5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DE14-2EE6-4E23-B3E7-9580C1C4CD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9B74-C6AD-4A7B-B457-A1C4023160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olcomhouse.com/geothermal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eys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Tahoma"/>
              </a:rPr>
              <a:t>Starr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Tahoma"/>
              </a:rPr>
              <a:t>Brandon James Du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Tahoma"/>
              </a:rPr>
              <a:t>&amp;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Tahoma"/>
              </a:rPr>
              <a:t>Anthony Alfred Paolu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889280" y="798480"/>
            <a:ext cx="527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260880" y="1179360"/>
            <a:ext cx="34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57200" y="4572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Arial"/>
              </a:rPr>
              <a:t>GEOTHERMAL ENERGY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33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two main types of geothermal energy come from the ground and the su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word geothermal comes from two greek words. “Geo” which means Earth, and “Thermal” which means hea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rally, the temperature rises one degree celsius for every 36 meters you go dow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 harness the heat produced miles and miles underground and use it to our advantage in order to create energ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GeothermalenergyReykjavik"/>
          <p:cNvPicPr/>
          <p:nvPr/>
        </p:nvPicPr>
        <p:blipFill>
          <a:blip r:embed="rId1"/>
          <a:stretch/>
        </p:blipFill>
        <p:spPr>
          <a:xfrm>
            <a:off x="5048280" y="4143240"/>
            <a:ext cx="40957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geoth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geodude"/>
          <p:cNvPicPr/>
          <p:nvPr/>
        </p:nvPicPr>
        <p:blipFill>
          <a:blip r:embed="rId1"/>
          <a:stretch/>
        </p:blipFill>
        <p:spPr>
          <a:xfrm>
            <a:off x="7956720" y="5562720"/>
            <a:ext cx="1187280" cy="1295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isadvantages of Geothermal Energ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many places where you can build the pl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hermal pocket can run out of steam, producing barely any thermal ener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5" descr="geothermal_power"/>
          <p:cNvPicPr/>
          <p:nvPr/>
        </p:nvPicPr>
        <p:blipFill>
          <a:blip r:embed="rId2"/>
          <a:stretch/>
        </p:blipFill>
        <p:spPr>
          <a:xfrm>
            <a:off x="0" y="0"/>
            <a:ext cx="5257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dvantag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lution is not an issue with geothermal energy; it creates no harmful emiss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 is virtually limitless amounts of geothermal energy – it will last as long as the earth is extremely hot a few miles below the surf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quires less room than many other alternative energy resources; takes up very little l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y reliable – does not depend on chance. One can retrieve energy via this source regardless of any var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duction cost is extremely low – this type of energy is very cheap to create, and the power plant can cover it’s own costs with the energy it mak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7086600" y="5410080"/>
            <a:ext cx="1371600" cy="1266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5715000" y="5410080"/>
            <a:ext cx="1339920" cy="1236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4343400" y="5410080"/>
            <a:ext cx="1333440" cy="1230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4"/>
          <a:stretch/>
        </p:blipFill>
        <p:spPr>
          <a:xfrm>
            <a:off x="2971800" y="5398920"/>
            <a:ext cx="133344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095Onix"/>
          <p:cNvPicPr/>
          <p:nvPr/>
        </p:nvPicPr>
        <p:blipFill>
          <a:blip r:embed="rId1"/>
          <a:stretch/>
        </p:blipFill>
        <p:spPr>
          <a:xfrm>
            <a:off x="7953480" y="0"/>
            <a:ext cx="1190520" cy="1285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Disadvantag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zardous gases could come up and are hard to dispose of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only do you need to find a hot place to drill, the rocks must be soft enough to drill through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living stones"/>
          <p:cNvPicPr/>
          <p:nvPr/>
        </p:nvPicPr>
        <p:blipFill>
          <a:blip r:embed="rId2"/>
          <a:stretch/>
        </p:blipFill>
        <p:spPr>
          <a:xfrm>
            <a:off x="4648320" y="3657600"/>
            <a:ext cx="4495680" cy="2787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img_113"/>
          <p:cNvPicPr/>
          <p:nvPr/>
        </p:nvPicPr>
        <p:blipFill>
          <a:blip r:embed="rId3"/>
          <a:stretch/>
        </p:blipFill>
        <p:spPr>
          <a:xfrm>
            <a:off x="228600" y="533520"/>
            <a:ext cx="3886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Inform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of the most sought after places for geothermal energy to be harnessed is Hawa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ifornia, Nevada, Utah, and Alaska are also all places commonly associated with geothermal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canoes have stirred up quite the controversy in terms of geothermal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va can be used to create energy extremely easily, as well as the st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7010280" y="152280"/>
            <a:ext cx="19195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graveler"/>
          <p:cNvPicPr/>
          <p:nvPr/>
        </p:nvPicPr>
        <p:blipFill>
          <a:blip r:embed="rId1"/>
          <a:stretch/>
        </p:blipFill>
        <p:spPr>
          <a:xfrm>
            <a:off x="7391520" y="5383080"/>
            <a:ext cx="1752480" cy="1474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untries that use Geothermal Energ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 Five Countries:            Gigawatt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s of 200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na----------------------- 8,7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ed States-------------  5,6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celand--------------------  5,6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key--------------------- 4,37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Zealand-------------- 1,96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724280" y="1752480"/>
            <a:ext cx="403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china"/>
          <p:cNvPicPr/>
          <p:nvPr/>
        </p:nvPicPr>
        <p:blipFill>
          <a:blip r:embed="rId2"/>
          <a:stretch/>
        </p:blipFill>
        <p:spPr>
          <a:xfrm>
            <a:off x="457200" y="0"/>
            <a:ext cx="2990880" cy="2990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usa2"/>
          <p:cNvPicPr/>
          <p:nvPr/>
        </p:nvPicPr>
        <p:blipFill>
          <a:blip r:embed="rId3"/>
          <a:stretch/>
        </p:blipFill>
        <p:spPr>
          <a:xfrm>
            <a:off x="5257800" y="304920"/>
            <a:ext cx="3567240" cy="287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Iceland"/>
          <p:cNvPicPr/>
          <p:nvPr/>
        </p:nvPicPr>
        <p:blipFill>
          <a:blip r:embed="rId4"/>
          <a:stretch/>
        </p:blipFill>
        <p:spPr>
          <a:xfrm>
            <a:off x="2209680" y="3352680"/>
            <a:ext cx="434340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solcomhouse.com/geothermal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ww.clean-energy-ideas.com/articles/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disadvantages_of_geothermal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_energy.htm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3:22:43Z</dcterms:created>
  <dc:creator>sasd</dc:creator>
  <dc:description/>
  <dc:language>en-US</dc:language>
  <cp:lastModifiedBy>Brandon Dutter</cp:lastModifiedBy>
  <dcterms:modified xsi:type="dcterms:W3CDTF">2009-05-12T10:06:32Z</dcterms:modified>
  <cp:revision>7</cp:revision>
  <dc:subject/>
  <dc:title>Slide 1</dc:title>
</cp:coreProperties>
</file>